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51E4-3AE3-4959-82C0-F9E99374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E5A8-4858-4755-9140-E37566E0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DCEB-1AED-4A15-A7BD-5158B604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0184-5E1A-4408-9AAB-112BBDAA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EA88-9BDE-42AF-B336-FB90FB6E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5FF1-7F57-4172-BACE-45286918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F467-D14E-4D69-9D49-4819EED4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FA39-AC4E-48FC-A644-62B58E0E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4A92-8320-4157-9476-36FEAECE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A819-25EA-42E5-AC1B-3600EA13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8E0C-56E1-43F3-84B7-C4DCB9F9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0816-59B7-446E-B94B-DC86A531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7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ystate Medica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1A15-D6A0-40E6-93F3-5B5B7A492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ystate Medica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ree Intraperitoneal Ai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 Osborne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ystate Medica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teral Supine X-Ra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0" name="Picture 5" descr="000004_text"/>
          <p:cNvPicPr/>
          <p:nvPr/>
        </p:nvPicPr>
        <p:blipFill>
          <a:blip r:embed="rId1"/>
          <a:stretch/>
        </p:blipFill>
        <p:spPr>
          <a:xfrm>
            <a:off x="1752480" y="1676520"/>
            <a:ext cx="57150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ystate Medica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igler</a:t>
            </a: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 Sig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is seen on both sides of the bow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 arr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not usually 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le to see the bow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l so 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5" descr="fig-7"/>
          <p:cNvPicPr/>
          <p:nvPr/>
        </p:nvPicPr>
        <p:blipFill>
          <a:blip r:embed="rId1"/>
          <a:stretch/>
        </p:blipFill>
        <p:spPr>
          <a:xfrm>
            <a:off x="5791320" y="2362320"/>
            <a:ext cx="28954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ystate Medica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igler</a:t>
            </a: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 Sign Agai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7" name="Picture 5" descr="tm_rigles_sign"/>
          <p:cNvPicPr/>
          <p:nvPr/>
        </p:nvPicPr>
        <p:blipFill>
          <a:blip r:embed="rId1"/>
          <a:stretch/>
        </p:blipFill>
        <p:spPr>
          <a:xfrm>
            <a:off x="2133720" y="2057400"/>
            <a:ext cx="47624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ystate Medica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ree Ai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many ca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al ways to see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 is largely surg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ystate Medica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rief list of Causes of Free Ai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erhaave's synd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ated peptic ul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ated gastric canc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ntaneous perforation of the small intest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ated diverticul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ated colon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dominal trau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 op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ystate Medica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st op Free ai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dults usually gone by 2 days on plain abdominal x-ray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percent go on to have free air beyond 5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seen in 44% of patients at 3days post op by C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amounts(10-40ml) could persist up to 18 day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likely to be present if drain was in p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- Nielsen KT, Lund L, et al., Eur J Surg. 1997 Jul;163(7):501-3.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uration of postoperative pneumoperitoneum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- Gayer G, Jonas T, et al., Abdom Imaging. 2000 May-Jun;25(3):301-5. Postoperative pneumoperitoneum as detected by CT: prevalence, duration, and relevant factors affecting its possible significanc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ystate Medica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tecting Free Ai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in X-rays are quick way of finding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 is more sen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rad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ime consu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often can pinpoint the cause of the free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ystate Medica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bdominal X-ray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right chest can show free air under the diaphrag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ose unable to sit up may see it on lateral decub fil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also be able to see bowel wall outlined as in Rigle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ystate Medica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ree Air under the Diaphrag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1" name="Picture 5" descr="pneumoperitoneum-patient10"/>
          <p:cNvPicPr/>
          <p:nvPr/>
        </p:nvPicPr>
        <p:blipFill>
          <a:blip r:embed="rId1"/>
          <a:stretch/>
        </p:blipFill>
        <p:spPr>
          <a:xfrm>
            <a:off x="2362320" y="1676520"/>
            <a:ext cx="4240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ystate Medica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ffuse free Ai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4" name="Picture 5" descr="nn585141"/>
          <p:cNvPicPr/>
          <p:nvPr/>
        </p:nvPicPr>
        <p:blipFill>
          <a:blip r:embed="rId1"/>
          <a:srcRect l="0" t="4814" r="0" b="2558"/>
          <a:stretch/>
        </p:blipFill>
        <p:spPr>
          <a:xfrm>
            <a:off x="2666880" y="1600200"/>
            <a:ext cx="3497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ystate Medica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teral Decub Fil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7" name="Picture 5" descr="336139-411616-3917tn"/>
          <p:cNvPicPr/>
          <p:nvPr/>
        </p:nvPicPr>
        <p:blipFill>
          <a:blip r:embed="rId1"/>
          <a:stretch/>
        </p:blipFill>
        <p:spPr>
          <a:xfrm>
            <a:off x="2309760" y="1805040"/>
            <a:ext cx="457200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4:17:45Z</dcterms:created>
  <dc:creator>EN06289</dc:creator>
  <dc:description/>
  <dc:language>en-US</dc:language>
  <cp:lastModifiedBy>Simulation Center Prog. Coord.</cp:lastModifiedBy>
  <dcterms:modified xsi:type="dcterms:W3CDTF">2011-03-04T18:37:18Z</dcterms:modified>
  <cp:revision>4</cp:revision>
  <dc:subject/>
  <dc:title>Slide 1</dc:title>
</cp:coreProperties>
</file>